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F47CE-90A0-4FD5-B0AF-6D429666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8FDCB-4D4D-4A19-8BF9-3D3C9BB7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DC97-189F-4B6E-90C8-5DB3FAFB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2BD8-564A-40EB-A270-BE182269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AED8-3B43-4AC8-A6DE-8D52850A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74A4-4D98-4017-927D-35E91FC6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6006-1D25-428F-B66C-3A9BA3FA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94CC-1E9C-4F0C-9776-56E072DA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487C-446C-49F0-A115-98FC9087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5F51-8A9B-4253-B570-F041F36F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CDC6-055F-4AEB-9B99-C72FC8FB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09E6-5F9E-41E2-928B-B57C71A1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5B43-8B43-45B2-A848-98F17B85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9A68-0BF7-4FF4-9CD8-F3865501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9263-5AEB-4206-A616-31AEDE8D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E1DA-8F3B-434B-9E12-C093A9AF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9357-F0AD-4523-A8BB-6AE3C4FF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8311-D93D-4204-A764-640C898D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ADE1-53A0-4CD9-8890-F99A61C7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643EB-5890-4D92-96C7-4828EC3C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5C1F-D9F7-45B4-8323-52B91B38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6A64-DFAB-4594-9CB8-8689514F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284C-9D1B-4382-80B3-60738B72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1083F-F942-4073-AD86-88983D08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2F0E-9729-4C90-8349-A43041FED2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B23A-0BB3-4354-9E84-063C479807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AFB0-8426-4919-9A4C-49F855E924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3999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xample 2.1 p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 the number of protons, neutrons, and electrons in each of the following spec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3357720"/>
          <a:ext cx="8820360" cy="3120840"/>
        </p:xfrm>
        <a:graphic>
          <a:graphicData uri="http://schemas.openxmlformats.org/drawingml/2006/table">
            <a:tbl>
              <a:tblPr/>
              <a:tblGrid>
                <a:gridCol w="1764000"/>
                <a:gridCol w="1620720"/>
                <a:gridCol w="1800000"/>
                <a:gridCol w="1513080"/>
                <a:gridCol w="21225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Atomic number 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mass number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–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0 – 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5280" y="4797360"/>
                <a:ext cx="1319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58920" y="197640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35BA6-7E7F-4A6A-922B-AB470288ED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42920" y="62064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rot="5400000">
            <a:off x="2915640" y="1052280"/>
            <a:ext cx="503280" cy="2087640"/>
          </a:xfrm>
          <a:custGeom>
            <a:avLst/>
            <a:gdLst>
              <a:gd name="textAreaLeft" fmla="*/ 0 w 503280"/>
              <a:gd name="textAreaRight" fmla="*/ 181800 w 503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34648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topes of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actice Exercise p5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protons, neutrons, and electrons are in the following isotope of copper: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can I get the atomic number: look at the periodic table →           then find the number of p, n &amp; e.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5950080"/>
                <a:ext cx="1008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408D-71DA-414F-AFEF-EC6FCF6EAB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4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104148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eriodic Ta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hart in which elements having similar chemical and physical properties are group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s in the modern periodic table are arranged by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24360" y="3173400"/>
            <a:ext cx="5580000" cy="3640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3132000"/>
            <a:ext cx="180000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2C9A-BAF4-440B-A325-86677314FC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1789200" y="2984400"/>
            <a:ext cx="2448000" cy="402840"/>
            <a:chOff x="1789200" y="2984400"/>
            <a:chExt cx="2448000" cy="402840"/>
          </a:xfrm>
        </p:grpSpPr>
        <p:sp>
          <p:nvSpPr>
            <p:cNvPr id="184" name="Text Box 4"/>
            <p:cNvSpPr/>
            <p:nvPr/>
          </p:nvSpPr>
          <p:spPr>
            <a:xfrm>
              <a:off x="2464560" y="2984400"/>
              <a:ext cx="1026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3399120" y="318744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1789200" y="318744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6653520" y="1619280"/>
            <a:ext cx="402840" cy="2419200"/>
            <a:chOff x="6653520" y="1619280"/>
            <a:chExt cx="402840" cy="2419200"/>
          </a:xfrm>
        </p:grpSpPr>
        <p:sp>
          <p:nvSpPr>
            <p:cNvPr id="188" name="Text Box 16"/>
            <p:cNvSpPr/>
            <p:nvPr/>
          </p:nvSpPr>
          <p:spPr>
            <a:xfrm rot="5400000">
              <a:off x="6354000" y="2545920"/>
              <a:ext cx="10018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6856560" y="32004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6856560" y="1619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57600" y="1185840"/>
            <a:ext cx="402840" cy="3171960"/>
            <a:chOff x="57600" y="1185840"/>
            <a:chExt cx="402840" cy="3171960"/>
          </a:xfrm>
        </p:grpSpPr>
        <p:sp>
          <p:nvSpPr>
            <p:cNvPr id="192" name="Text Box 21"/>
            <p:cNvSpPr/>
            <p:nvPr/>
          </p:nvSpPr>
          <p:spPr>
            <a:xfrm rot="5400000">
              <a:off x="-613800" y="2561760"/>
              <a:ext cx="1745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263880" y="35197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263880" y="1185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8669520" y="1295280"/>
            <a:ext cx="402840" cy="2928960"/>
            <a:chOff x="8669520" y="1295280"/>
            <a:chExt cx="402840" cy="2928960"/>
          </a:xfrm>
        </p:grpSpPr>
        <p:sp>
          <p:nvSpPr>
            <p:cNvPr id="196" name="Text Box 26"/>
            <p:cNvSpPr/>
            <p:nvPr/>
          </p:nvSpPr>
          <p:spPr>
            <a:xfrm rot="5400000">
              <a:off x="8087760" y="2535840"/>
              <a:ext cx="15660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8874000" y="338580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8874000" y="1295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4"/>
          <p:cNvGrpSpPr/>
          <p:nvPr/>
        </p:nvGrpSpPr>
        <p:grpSpPr>
          <a:xfrm>
            <a:off x="8160120" y="1671480"/>
            <a:ext cx="402840" cy="2671920"/>
            <a:chOff x="8160120" y="1671480"/>
            <a:chExt cx="402840" cy="2671920"/>
          </a:xfrm>
        </p:grpSpPr>
        <p:sp>
          <p:nvSpPr>
            <p:cNvPr id="200" name="Text Box 31"/>
            <p:cNvSpPr/>
            <p:nvPr/>
          </p:nvSpPr>
          <p:spPr>
            <a:xfrm rot="5400000">
              <a:off x="7711200" y="2755440"/>
              <a:ext cx="13006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8366040" y="35053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8366040" y="16714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98680" y="760320"/>
            <a:ext cx="402840" cy="3978360"/>
            <a:chOff x="598680" y="760320"/>
            <a:chExt cx="402840" cy="3978360"/>
          </a:xfrm>
        </p:grpSpPr>
        <p:sp>
          <p:nvSpPr>
            <p:cNvPr id="204" name="Text Box 36"/>
            <p:cNvSpPr/>
            <p:nvPr/>
          </p:nvSpPr>
          <p:spPr>
            <a:xfrm rot="5400000">
              <a:off x="-494640" y="2586600"/>
              <a:ext cx="25898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80316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80316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D102F-E821-4AA9-920A-FBB030182D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are arranged by atomic number (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riod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7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oup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vertical rows, elements in the same group have similar chemical and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8 groups, assigned as 1A-to-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so 8 groups are assigned as 1B-to-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groups are given special n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groups 1B-to-8B are called the </a:t>
            </a:r>
            <a:r>
              <a:rPr b="1" lang="en-GB" sz="2000" spc="-1" strike="noStrike">
                <a:solidFill>
                  <a:srgbClr val="9900cc"/>
                </a:solidFill>
                <a:latin typeface="Comic Sans MS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oup 1A elements (Li, Na, K, Rb, Cs and Fr) are called </a:t>
            </a:r>
            <a:r>
              <a:rPr b="1" lang="en-GB" sz="2000" spc="-1" strike="noStrike">
                <a:solidFill>
                  <a:srgbClr val="a50021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roup 2A elements (Be, Mg, Ca, Sr, Ba and Ra) are called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roup 7A elements (F, Cl, Br, I and At) are a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99ff"/>
                </a:solidFill>
                <a:latin typeface="Comic Sans MS"/>
              </a:rPr>
              <a:t>Group 8A elements (He, Ne, Ar, Kr, Xe and Rn) are called </a:t>
            </a:r>
            <a:r>
              <a:rPr b="1" lang="en-GB" sz="2000" spc="-1" strike="noStrike">
                <a:solidFill>
                  <a:srgbClr val="9999ff"/>
                </a:solidFill>
                <a:latin typeface="Comic Sans MS"/>
              </a:rPr>
              <a:t>Noble Gases or Rare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45B0-4274-4C17-96A0-7189B22139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ments in the periodic table are divided into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green colour, Most elements) is a good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n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lue colour, 17 elements) is a poor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loi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rown colour, 8 elements) has properties that are intermediate between those of metals and nonme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BE8D5-7B7E-4D39-A3BD-CE683F44BC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elements is most likely to be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ductor of electricity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4bacc6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element is the 15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element in period  #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1C197-39B4-46ED-9D6E-AFB3CD47F6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24000" y="126828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olec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aggregate of two or more atoms in a definite arrangement held together by chemical forces, a molecule may contain atoms of the same element or atoms of two or mor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476360" y="3573360"/>
            <a:ext cx="6116760" cy="1796040"/>
            <a:chOff x="1476360" y="3573360"/>
            <a:chExt cx="6116760" cy="1796040"/>
          </a:xfrm>
        </p:grpSpPr>
        <p:pic>
          <p:nvPicPr>
            <p:cNvPr id="213" name="Picture 3" descr="C:\Chang Powerpoint\Figures\f002_12.jpg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476360" y="357336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1733400" y="485928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145680" y="485928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939560" y="485928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6516000" y="4859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51A5-A46D-42F5-9CDE-F147856B71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79280" y="270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Diatomic molecule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52080" y="4292640"/>
            <a:ext cx="33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Br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59280" y="27036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olyatomic molecule: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50760" y="4221000"/>
            <a:ext cx="26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, N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C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959280" y="-107136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C7B93-7F71-4C85-8611-ADDB4831A7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 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n atom or a group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has a net positive (+ve) or negative (-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9280" y="3763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tion: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an ion with a +ve charge (lose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4520" y="61405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859280" y="375912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nion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n ion with a -ve charge ( Gain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3241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959280" y="-1548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400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30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no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530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oly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1744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7440" y="529920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 Br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S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235480"/>
            <a:ext cx="1908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ly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H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,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4880" y="61405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5E5C3-FEB0-46F1-9C01-F30AD6C0D8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921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49-6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71-7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2.10, 2.11, 2.12, 2.14, 2.16, 2.18, 2.26, 2.34, 2.36, 2.44, 2.46, 2.50, 2.57 (a,e,f,g,h,I,j,k,l,m), 2.58 (b,c,d,g,h,I,k), 2.59 (a,b,d,g,h,j), 2.60 (a,e,f,g,h,k),2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A00119_"/>
          <p:cNvPicPr/>
          <p:nvPr/>
        </p:nvPicPr>
        <p:blipFill>
          <a:blip r:embed="rId1"/>
          <a:stretch/>
        </p:blipFill>
        <p:spPr>
          <a:xfrm>
            <a:off x="0" y="57636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NA00121_"/>
          <p:cNvPicPr/>
          <p:nvPr/>
        </p:nvPicPr>
        <p:blipFill>
          <a:blip r:embed="rId2"/>
          <a:stretch/>
        </p:blipFill>
        <p:spPr>
          <a:xfrm>
            <a:off x="7380360" y="5746680"/>
            <a:ext cx="1763640" cy="11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AE9E6-0423-4B8B-A278-F241F22A78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7"/>
          <p:cNvGrpSpPr/>
          <p:nvPr/>
        </p:nvGrpSpPr>
        <p:grpSpPr>
          <a:xfrm>
            <a:off x="974880" y="1476360"/>
            <a:ext cx="3167640" cy="1295280"/>
            <a:chOff x="974880" y="1476360"/>
            <a:chExt cx="3167640" cy="1295280"/>
          </a:xfrm>
        </p:grpSpPr>
        <p:grpSp>
          <p:nvGrpSpPr>
            <p:cNvPr id="241" name="Group 10"/>
            <p:cNvGrpSpPr/>
            <p:nvPr/>
          </p:nvGrpSpPr>
          <p:grpSpPr>
            <a:xfrm>
              <a:off x="974880" y="1476360"/>
              <a:ext cx="1295280" cy="1295280"/>
              <a:chOff x="974880" y="1476360"/>
              <a:chExt cx="1295280" cy="129528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974880" y="147636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270440" y="1863720"/>
                <a:ext cx="88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0"/>
            <p:cNvSpPr/>
            <p:nvPr/>
          </p:nvSpPr>
          <p:spPr>
            <a:xfrm>
              <a:off x="2500200" y="17730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8"/>
          <p:cNvGrpSpPr/>
          <p:nvPr/>
        </p:nvGrpSpPr>
        <p:grpSpPr>
          <a:xfrm>
            <a:off x="5508720" y="1628640"/>
            <a:ext cx="2970360" cy="1143000"/>
            <a:chOff x="5508720" y="1628640"/>
            <a:chExt cx="2970360" cy="1143000"/>
          </a:xfrm>
        </p:grpSpPr>
        <p:grpSp>
          <p:nvGrpSpPr>
            <p:cNvPr id="246" name="Group 11"/>
            <p:cNvGrpSpPr/>
            <p:nvPr/>
          </p:nvGrpSpPr>
          <p:grpSpPr>
            <a:xfrm>
              <a:off x="5508720" y="1628640"/>
              <a:ext cx="1201320" cy="1143000"/>
              <a:chOff x="5508720" y="1628640"/>
              <a:chExt cx="1201320" cy="1143000"/>
            </a:xfrm>
          </p:grpSpPr>
          <p:sp>
            <p:nvSpPr>
              <p:cNvPr id="247" name="Oval 8"/>
              <p:cNvSpPr/>
              <p:nvPr/>
            </p:nvSpPr>
            <p:spPr>
              <a:xfrm>
                <a:off x="5508720" y="1628640"/>
                <a:ext cx="114264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9"/>
              <p:cNvSpPr/>
              <p:nvPr/>
            </p:nvSpPr>
            <p:spPr>
              <a:xfrm>
                <a:off x="5689440" y="19414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21"/>
            <p:cNvSpPr/>
            <p:nvPr/>
          </p:nvSpPr>
          <p:spPr>
            <a:xfrm>
              <a:off x="6836760" y="18414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1042920" y="4013280"/>
            <a:ext cx="3111840" cy="1143000"/>
            <a:chOff x="1042920" y="4013280"/>
            <a:chExt cx="3111840" cy="1143000"/>
          </a:xfrm>
        </p:grpSpPr>
        <p:grpSp>
          <p:nvGrpSpPr>
            <p:cNvPr id="251" name="Group 23"/>
            <p:cNvGrpSpPr/>
            <p:nvPr/>
          </p:nvGrpSpPr>
          <p:grpSpPr>
            <a:xfrm>
              <a:off x="1042920" y="4013280"/>
              <a:ext cx="1143000" cy="1143000"/>
              <a:chOff x="1042920" y="4013280"/>
              <a:chExt cx="1143000" cy="11430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1042920" y="401328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357560" y="4324680"/>
                <a:ext cx="75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22"/>
            <p:cNvSpPr/>
            <p:nvPr/>
          </p:nvSpPr>
          <p:spPr>
            <a:xfrm>
              <a:off x="2512440" y="423396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5348160" y="3860640"/>
            <a:ext cx="3123000" cy="1447560"/>
            <a:chOff x="5348160" y="3860640"/>
            <a:chExt cx="3123000" cy="1447560"/>
          </a:xfrm>
        </p:grpSpPr>
        <p:grpSp>
          <p:nvGrpSpPr>
            <p:cNvPr id="256" name="Group 24"/>
            <p:cNvGrpSpPr/>
            <p:nvPr/>
          </p:nvGrpSpPr>
          <p:grpSpPr>
            <a:xfrm>
              <a:off x="5348160" y="3860640"/>
              <a:ext cx="1447920" cy="1447560"/>
              <a:chOff x="5348160" y="3860640"/>
              <a:chExt cx="1447920" cy="1447560"/>
            </a:xfrm>
          </p:grpSpPr>
          <p:sp>
            <p:nvSpPr>
              <p:cNvPr id="257" name="Oval 18"/>
              <p:cNvSpPr/>
              <p:nvPr/>
            </p:nvSpPr>
            <p:spPr>
              <a:xfrm>
                <a:off x="5348160" y="386064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9"/>
              <p:cNvSpPr/>
              <p:nvPr/>
            </p:nvSpPr>
            <p:spPr>
              <a:xfrm>
                <a:off x="5787720" y="440028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26"/>
            <p:cNvSpPr/>
            <p:nvPr/>
          </p:nvSpPr>
          <p:spPr>
            <a:xfrm>
              <a:off x="6828840" y="422568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56360" y="9079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7720-B528-4977-AF51-69B16EEFCD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470520"/>
            <a:ext cx="860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magnesium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, h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3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6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2 protons and 10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2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4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68360" y="3113640"/>
            <a:ext cx="7027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sulfide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 , ha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4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6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D6C7F-FCE6-436C-B69C-097C2535A4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6192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20000" y="692280"/>
                <a:ext cx="187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7148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93080" y="3789360"/>
                <a:ext cx="172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C4D1D-DCBC-4E49-876B-157056693E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6 Chem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1. A molecular formula: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ws the exact number of atoms of each element in the smallest unit of a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,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E2C62-CD9B-44DF-BE44-2499AD8034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747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2. An empirical formula: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mplest whole-number ratio of the atoms in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 may the same or different from 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can we get the Empirical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umbers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de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divide the numbers 6, 12 and 6 by the largest common deviso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8D94C-440B-4E04-8DBE-8D591C2BD6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5328720" y="12682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1608840" y="476280"/>
            <a:ext cx="5923800" cy="1437840"/>
            <a:chOff x="1608840" y="476280"/>
            <a:chExt cx="5923800" cy="1437840"/>
          </a:xfrm>
        </p:grpSpPr>
        <p:sp>
          <p:nvSpPr>
            <p:cNvPr id="275" name="Text Box 6"/>
            <p:cNvSpPr/>
            <p:nvPr/>
          </p:nvSpPr>
          <p:spPr>
            <a:xfrm>
              <a:off x="2302920" y="1057320"/>
              <a:ext cx="1218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H</a:t>
              </a:r>
              <a:r>
                <a:rPr b="0" lang="en-US" sz="4400" spc="-1" strike="noStrike" baseline="-25000">
                  <a:solidFill>
                    <a:srgbClr val="a50021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1608840" y="476280"/>
              <a:ext cx="299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molecula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726080" y="476280"/>
              <a:ext cx="280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9900cc"/>
                  </a:solidFill>
                  <a:uFillTx/>
                  <a:latin typeface="Comic Sans MS"/>
                </a:rPr>
                <a:t>empiric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1991880" y="2708280"/>
            <a:ext cx="2129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5191560" y="2708280"/>
            <a:ext cx="1572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C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424600" y="3890880"/>
            <a:ext cx="803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97200" y="38908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270160" y="5043600"/>
            <a:ext cx="139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42760" y="5043600"/>
            <a:ext cx="1206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14AC-ECA8-4116-A37C-37C04BFA8E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mple 2.3 p5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rite the empirical formulas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llowing molec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cetylene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trous oxide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 →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actice Exercise: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BFCCF-2953-41D7-81DB-BA49E64D49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9036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3. Formula of Ionic Compounds: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أيونية</a:t>
            </a: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28736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Compoun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ist of a combination of cations and an a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4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Cl</a:t>
            </a:r>
            <a:r>
              <a:rPr b="0" lang="en-GB" sz="48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334152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29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346716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18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13EF4-C793-43FB-BF8B-21328C952C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Chang Powerpoint\Figures\f002_13l.jpg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1822320"/>
            <a:ext cx="8128080" cy="307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354040" y="1341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1444-2D22-4461-9A33-15F6F73743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m of the charges on the cation/s and anion/s in each formula unit must equal zer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ula of the ionic compound must b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to make the formula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bscript of the cation is 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qual to the charge on the anion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script on the anion is numerically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the charge on the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546732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4A08-CE19-4FFF-9683-488E3B1AFA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 Atoms, Molecules and Ions: 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 Atomic Number, Mass Number and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5 Molecule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6 Chem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7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cula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D63E-E825-4253-88E3-E4AFEB6ED8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784960" y="1197000"/>
            <a:ext cx="34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Br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96200" y="472428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B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assium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0C64-5BFA-4937-B622-6D4AFC871D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2508840" y="1197000"/>
            <a:ext cx="39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GB" sz="6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1700280"/>
            <a:ext cx="280836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352320" y="4724280"/>
            <a:ext cx="3120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844640"/>
            <a:ext cx="2303640" cy="7444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nc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BED1-B032-4C76-8A37-CA31B011BF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535480" y="1197000"/>
            <a:ext cx="39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349800" y="4724280"/>
            <a:ext cx="31251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ar-SA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DBBB-0430-46DF-9338-2E5E85BC16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144520" y="1197000"/>
            <a:ext cx="47311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1773360"/>
            <a:ext cx="417672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384640" y="4724280"/>
            <a:ext cx="50652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(S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9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GB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060640"/>
            <a:ext cx="3240000" cy="79200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ium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2637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03DF-4ACD-4988-A069-668F2F0862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55836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mple 2.4 p5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rite the formula of magnesium ni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ntaining the 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3-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83720" y="35719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73320" y="3932280"/>
            <a:ext cx="1871640" cy="1584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635280" y="4220640"/>
            <a:ext cx="433080" cy="1008000"/>
          </a:xfrm>
          <a:prstGeom prst="downArrow">
            <a:avLst>
              <a:gd name="adj1" fmla="val 50000"/>
              <a:gd name="adj2" fmla="val 58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37080" y="4221000"/>
            <a:ext cx="2200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GB" sz="54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GB" sz="5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5880" y="4005360"/>
            <a:ext cx="1441800" cy="9586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558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6EC2-7850-40FC-8A7D-C7AEBB87D2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7 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nomenclatu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naming the 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63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39280" y="547920"/>
            <a:ext cx="649080" cy="6121440"/>
          </a:xfrm>
          <a:custGeom>
            <a:avLst/>
            <a:gdLst>
              <a:gd name="textAreaLeft" fmla="*/ 0 w 649080"/>
              <a:gd name="textAreaRight" fmla="*/ 234360 w 64908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07664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Organic Compound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contain carbon in combination with elements such as hydrogen,  oxygen, nitrogen and 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08720" y="4076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Inorganic Compound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ll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950080"/>
            <a:ext cx="88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lso Inorganic compounds: CO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mpounds containing 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&amp; H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F361-6931-48CF-AD44-145736F189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F4375-FC6E-4023-8828-6A356D1EA8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76F2-4EF7-412F-93B8-A133DC34AE1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32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reactive </a:t>
            </a:r>
            <a:r>
              <a:rPr b="1" lang="en-US" sz="2800" spc="-1" strike="noStrike">
                <a:solidFill>
                  <a:srgbClr val="00cc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green) and the most reactive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blue) combine to form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4680" y="5284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310B1-BCFE-4DA7-A18A-45A098DC3A5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24000" y="47304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 form an ionic compound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and B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ae2ca"/>
                </a:solidFill>
                <a:latin typeface="Comic Sans MS"/>
              </a:rPr>
              <a:t>O and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and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284640"/>
            <a:ext cx="85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form a molecular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 and Br            (b) </a:t>
            </a:r>
            <a:r>
              <a:rPr b="0" lang="en-GB" sz="2400" spc="-1" strike="noStrike">
                <a:solidFill>
                  <a:srgbClr val="aae2ca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 and O             (d) Zn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g and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FFC38-62D1-4420-BC47-55EEDF9C92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toms, Molecules and Ions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31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basic unit of an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 enter into chemica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Electron (e) (-ve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ton (p) (+ve char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omic Sans MS"/>
              </a:rPr>
              <a:t>Neutron (n) (neut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429000"/>
            <a:ext cx="503280" cy="1655640"/>
          </a:xfrm>
          <a:custGeom>
            <a:avLst/>
            <a:gdLst>
              <a:gd name="textAreaLeft" fmla="*/ 0 w 503280"/>
              <a:gd name="textAreaRight" fmla="*/ 181800 w 503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38019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atomic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4DBB-B286-45E0-B742-13A84C734D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915280" y="908280"/>
            <a:ext cx="1152360" cy="5904000"/>
          </a:xfrm>
          <a:custGeom>
            <a:avLst/>
            <a:gdLst>
              <a:gd name="textAreaLeft" fmla="*/ 0 w 1152360"/>
              <a:gd name="textAreaRight" fmla="*/ 416160 w 1152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45036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etal Cation: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43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Nonmetal Anion: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E79B-3658-418A-8607-6959DA16E37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8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Metal Cation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960000" y="-1648440"/>
            <a:ext cx="1008000" cy="7274160"/>
          </a:xfrm>
          <a:custGeom>
            <a:avLst/>
            <a:gdLst>
              <a:gd name="textAreaLeft" fmla="*/ 0 w 1008000"/>
              <a:gd name="textAreaRight" fmla="*/ 363960 w 1008000"/>
              <a:gd name="textAreaTop" fmla="*/ 189360 h 7274160"/>
              <a:gd name="textAreaBottom" fmla="*/ 7084800 h 727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708280"/>
            <a:ext cx="4390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56536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other metal cations e.g.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5746680"/>
            <a:ext cx="7705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ame of metal cation: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mon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10145-B619-4DCB-98DD-CBE2AA6ADCE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15238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9228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only type of 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236700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6AD4-212D-48A5-8CF8-7A9F5E9761A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79280" y="1773360"/>
          <a:ext cx="8712360" cy="2735280"/>
        </p:xfrm>
        <a:graphic>
          <a:graphicData uri="http://schemas.openxmlformats.org/drawingml/2006/table">
            <a:tbl>
              <a:tblPr/>
              <a:tblGrid>
                <a:gridCol w="252108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 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Sodium ion (or sodium cation</a:t>
                      </a:r>
                      <a:r>
                        <a:rPr b="0" lang="ar-SA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 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potassium ion (or potas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 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magnesium ion (or magne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 Alumi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aluminium ion (or alumin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E73DE-B6E0-45FB-8350-710259A5C20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620640"/>
            <a:ext cx="849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Iron can form two cation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&amp;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Comic Sans MS"/>
              </a:rPr>
              <a:t>Stock System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specify th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of the cation  with Roman num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e.g. 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51640" y="3357720"/>
          <a:ext cx="1657440" cy="3095640"/>
        </p:xfrm>
        <a:graphic>
          <a:graphicData uri="http://schemas.openxmlformats.org/drawingml/2006/table">
            <a:tbl>
              <a:tblPr/>
              <a:tblGrid>
                <a:gridCol w="748800"/>
                <a:gridCol w="9086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7233840" y="2997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oman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BAC5F-6DC6-4799-9F32-CCD3323233C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36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Nonmetal Anion: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31280" y="-639000"/>
            <a:ext cx="1079640" cy="547200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708280"/>
            <a:ext cx="45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Chlorine →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Bromine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Oxygen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0080" y="2708280"/>
            <a:ext cx="387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ly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H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N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229360"/>
            <a:ext cx="87487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Comic Sans MS"/>
              </a:rPr>
              <a:t>Common names for some anions: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Carbonate    P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Phosphate  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H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Bicarbonate       N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Nitrate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A410B-BD62-4F48-8DE4-9D3C0D39421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02_02"/>
          <p:cNvPicPr/>
          <p:nvPr/>
        </p:nvPicPr>
        <p:blipFill>
          <a:blip r:embed="rId1"/>
          <a:srcRect l="0" t="5392" r="0" b="0"/>
          <a:stretch/>
        </p:blipFill>
        <p:spPr>
          <a:xfrm>
            <a:off x="360360" y="1905120"/>
            <a:ext cx="8388360" cy="296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3964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DA94E-515A-4AE9-AF38-DCBAE963194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02_03"/>
          <p:cNvPicPr/>
          <p:nvPr/>
        </p:nvPicPr>
        <p:blipFill>
          <a:blip r:embed="rId1"/>
          <a:srcRect l="0" t="2224" r="0" b="2126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38AE-F8C8-4DF6-B305-A26420157F3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5 p6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a) Cu(N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pper cation (can form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s of 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ck system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pper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ion 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3789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D00A-C5DB-4597-BA3D-81DCE60955F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b) KH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K form only one type of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tass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te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ot potassium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Potasium dihydro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FDDB-D7AE-4A18-B42D-45DF4E89F69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02_01"/>
          <p:cNvPicPr/>
          <p:nvPr/>
        </p:nvPicPr>
        <p:blipFill>
          <a:blip r:embed="rId1"/>
          <a:srcRect l="0" t="5427" r="0" b="0"/>
          <a:stretch/>
        </p:blipFill>
        <p:spPr>
          <a:xfrm>
            <a:off x="287280" y="765000"/>
            <a:ext cx="8748720" cy="293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24000" y="4365720"/>
            <a:ext cx="82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ss p = mass n = 1840 x mass e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27086-D7F4-4B19-96AE-550C019789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c) N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l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common name amm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mmon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0C50-7682-4824-94A8-C0E3E0AC521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6 p6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Mercury (I) nit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 number (I) shows that mercury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1 charg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ite is a common name of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Hg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NO</a:t>
            </a:r>
            <a:r>
              <a:rPr b="0" lang="ar-SA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AA1C-5EE6-4273-B57B-7652E013EE5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280" y="907920"/>
            <a:ext cx="874872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Mercury (Hg) is the only metal has this formula when it form cation with only one positive charg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Hg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2+</a:t>
            </a: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 NOT Hg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cation of two positive charges has the formula H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046F3-EA01-403B-A76D-FEBE89276A0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Cesium sulp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sium Cs is in group 1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lphide 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304A-3734-4E6D-96E5-21CC7BCF937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(b) Calcium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ium Ca is in 2A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ate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57483-69B4-45DA-9E91-26EFDF20A8E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4248000" y="-1143000"/>
            <a:ext cx="792000" cy="5472360"/>
          </a:xfrm>
          <a:custGeom>
            <a:avLst/>
            <a:gdLst>
              <a:gd name="textAreaLeft" fmla="*/ 0 w 792000"/>
              <a:gd name="textAreaRight" fmla="*/ 285840 w 79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191628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191628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DB29-ACE1-48CB-84C9-141082FB2C1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41360" y="606600"/>
            <a:ext cx="8523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CB96A-83EB-4D31-81E4-439FF2284BB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54936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Place the name of the first element in the formula first, and the second element is named by adding –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63640" y="4054320"/>
          <a:ext cx="5832720" cy="2830680"/>
        </p:xfrm>
        <a:graphic>
          <a:graphicData uri="http://schemas.openxmlformats.org/drawingml/2006/table">
            <a:tbl>
              <a:tblPr/>
              <a:tblGrid>
                <a:gridCol w="1871640"/>
                <a:gridCol w="3961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chlo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bro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licone carb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F49A-8E90-4C57-8D44-AD21D0C2E2F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709560"/>
            <a:ext cx="784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 the following cases: (one pair of elements form several different compou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CO           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N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C900-14EE-40A7-9ACA-FB82604894F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415800"/>
            <a:ext cx="6480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lso by placing the name of the first element in the formula first, and the second element is named by 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+ By using of Greek prefixes to denote the number of atoms of each elemen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02_04"/>
          <p:cNvPicPr/>
          <p:nvPr/>
        </p:nvPicPr>
        <p:blipFill>
          <a:blip r:embed="rId1"/>
          <a:srcRect l="5021" t="2087" r="4800" b="2087"/>
          <a:stretch/>
        </p:blipFill>
        <p:spPr>
          <a:xfrm>
            <a:off x="6877080" y="476280"/>
            <a:ext cx="21938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7916D-E2B8-4073-856D-B061216B775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85800" y="380880"/>
            <a:ext cx="7924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neutral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914400"/>
          <a:ext cx="6172200" cy="121932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914400" y="223524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C. II and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D. I and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2781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egatively charged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3578400"/>
          <a:ext cx="6172200" cy="121896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7"/>
          <p:cNvSpPr/>
          <p:nvPr/>
        </p:nvSpPr>
        <p:spPr>
          <a:xfrm>
            <a:off x="990720" y="486396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II and 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D. I and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Atoms with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same number of electrons and number of protons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are call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ons                                           B. iso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neutral atoms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. different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FFE5-C7BC-4086-A414-60E4782FA5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549360"/>
            <a:ext cx="208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26920" y="1805040"/>
          <a:ext cx="6193080" cy="4719600"/>
        </p:xfrm>
        <a:graphic>
          <a:graphicData uri="http://schemas.openxmlformats.org/drawingml/2006/table">
            <a:tbl>
              <a:tblPr/>
              <a:tblGrid>
                <a:gridCol w="1810080"/>
                <a:gridCol w="438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onocarbon mono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→ </a:t>
                      </a: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arbon mon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9999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ulphur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lphur tr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666633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itroge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initrogen tet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484360" y="1844640"/>
            <a:ext cx="1150920" cy="432000"/>
          </a:xfrm>
          <a:prstGeom prst="wedgeRectCallout">
            <a:avLst>
              <a:gd name="adj1" fmla="val 4620"/>
              <a:gd name="adj2" fmla="val -120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76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te: Omitted if its in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99120" y="1916280"/>
            <a:ext cx="203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momo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5508720"/>
            <a:ext cx="2520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aoxide </a:t>
            </a: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51A0-8528-4CAA-985B-0ED6FF090B4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7 p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molecular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SiCl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silicon atom &amp; four chlorine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Monosilicon tetrachloride (or 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ilicon 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hlorid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BDC2-78D9-46E9-B84C-F1ED109AD01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P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r phosphourus atoms &amp; te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phosphourus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068640"/>
            <a:ext cx="203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BF789-E8B7-462F-90EC-E67CFD0DFEB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433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xample 2.8 p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molecular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a) carbon di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one carbon atom &amp; two sulp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b) Disilicon hexa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two silicon atoms &amp; six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r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971AF-DF6E-47DC-98D5-C83C65B8401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981000"/>
            <a:ext cx="914580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. Ion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Cation          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2. Non-metal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Take the name of th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Common metal NH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one type of cation (1A, 2A, Ag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, Zn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more than one type of cation (e.g..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tock System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Roman numeral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(1 = I, 2 = II, 3 = III, 4 = IV, 5 =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888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Naming Compound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A4CB2-BEE2-47EA-8EB7-E24D6DD24A0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79280" y="981000"/>
            <a:ext cx="89647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Non-metal Anion                             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1. Metal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ake the name of the element but change the last of the name to -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1. Common names, ClO</a:t>
            </a:r>
            <a:r>
              <a:rPr b="0" lang="en-GB" sz="20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monoatomic non-metals, e.g. chlorin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3. Polyatoic non-metals, OH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yd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35B0-BBA8-4DBF-82C8-D98E2EC9768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9280" y="981000"/>
            <a:ext cx="8964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airs form one type of compound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2. Pairs form several type   of compounds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-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HCl Hydrogen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0720" y="3141720"/>
            <a:ext cx="46432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–ide, &amp; use the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reek prefixes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(mono- = 1, di- = 2 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CO carbon 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C2C1-106A-4990-AFA6-C2978C48625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611280" y="54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NH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ammonium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um nitrogen tr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a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611280" y="378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PC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phosphate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sphorus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lor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   monophosphate tetr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phosphorus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FAFD-B70A-4E07-AE05-BF3860D2930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4762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379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التكافؤ او عدد الاكسد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للعناصر الشهي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383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1A (alkaline Metals):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2A (alkaline Earth Metals): 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3A: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5A: -3 (= 5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6A: -2 (=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7A (halogens): -1 (= 7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E3AA-B8E5-4208-86AA-CA62B668EE0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8893440" cy="657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979640" y="260280"/>
            <a:ext cx="367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3700B-E0D8-433A-B1EF-B782EE84074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706400"/>
            <a:ext cx="899172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omic number: is the number of protons in the nucleus of each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number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 neutral atom: Number of protons =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ass number: is the total number of neutrons and protons present in the nucleus of an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 number (A) = number of protons + number of neut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  atomic number (Z)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s: the number of neutrons = A -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040" y="4046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3 Atomic number, Mass number and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D1A91-36DC-402B-8792-837CBB2C8D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920" y="423720"/>
            <a:ext cx="496872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9900cc"/>
                </a:solidFill>
                <a:uFillTx/>
                <a:latin typeface="Comic Sans MS"/>
              </a:rPr>
              <a:t>Problems: 2.57 &amp; 2.58 p7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me these compou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P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B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L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371520"/>
            <a:ext cx="748836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sodium 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hydrogen phosph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hydrogen bro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lithium carb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di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ammonium nit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tri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penta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tetraphosphourus hex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29CF-8CD9-400D-967F-9315BA33CA9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-531720"/>
            <a:ext cx="468144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d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rS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l(OH)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Cl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56000" y="-544680"/>
            <a:ext cx="644364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cadm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tront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alumin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odium carbo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I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9FC1-6266-4D8A-AAC7-483C25E3EB8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549360"/>
            <a:ext cx="633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Problem 2.59 &amp; 2.30 p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Write the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Rubidium nit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agnes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lcium 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di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odine heptaflou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2421000"/>
            <a:ext cx="298764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bN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H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H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F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6E6EB-F27D-41D7-A129-0A12536247C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549360"/>
            <a:ext cx="867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mmon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ilver per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boron tr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I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V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37080" y="1197000"/>
            <a:ext cx="29876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N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gCl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Cl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(CN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(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E6BE8-A4D7-4231-B82E-F0CFC4B3889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488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7BA71-260B-4255-BF35-F4FF1357B0D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88560" y="1430280"/>
            <a:ext cx="728280" cy="816840"/>
            <a:chOff x="3688560" y="1430280"/>
            <a:chExt cx="728280" cy="816840"/>
          </a:xfrm>
        </p:grpSpPr>
        <p:sp>
          <p:nvSpPr>
            <p:cNvPr id="129" name=""/>
            <p:cNvSpPr/>
            <p:nvPr/>
          </p:nvSpPr>
          <p:spPr>
            <a:xfrm>
              <a:off x="3967920" y="1503360"/>
              <a:ext cx="44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8560" y="143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8520" y="178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56240" y="2529000"/>
            <a:ext cx="4671360" cy="751680"/>
            <a:chOff x="1956240" y="2529000"/>
            <a:chExt cx="4671360" cy="751680"/>
          </a:xfrm>
        </p:grpSpPr>
        <p:grpSp>
          <p:nvGrpSpPr>
            <p:cNvPr id="133" name=""/>
            <p:cNvGrpSpPr/>
            <p:nvPr/>
          </p:nvGrpSpPr>
          <p:grpSpPr>
            <a:xfrm>
              <a:off x="1956240" y="2529000"/>
              <a:ext cx="718560" cy="751680"/>
              <a:chOff x="1956240" y="2529000"/>
              <a:chExt cx="718560" cy="7516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55680" y="2603520"/>
                <a:ext cx="51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5624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624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99400" y="2529000"/>
              <a:ext cx="1481400" cy="751680"/>
              <a:chOff x="3299400" y="2529000"/>
              <a:chExt cx="1481400" cy="751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4840" y="2602080"/>
                <a:ext cx="124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38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94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94800" y="2529000"/>
              <a:ext cx="1432800" cy="751680"/>
              <a:chOff x="5194800" y="2529000"/>
              <a:chExt cx="1432800" cy="75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60840" y="2602080"/>
                <a:ext cx="11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192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8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434320" y="3564000"/>
            <a:ext cx="3139200" cy="751680"/>
            <a:chOff x="2434320" y="3564000"/>
            <a:chExt cx="3139200" cy="751680"/>
          </a:xfrm>
        </p:grpSpPr>
        <p:grpSp>
          <p:nvGrpSpPr>
            <p:cNvPr id="146" name=""/>
            <p:cNvGrpSpPr/>
            <p:nvPr/>
          </p:nvGrpSpPr>
          <p:grpSpPr>
            <a:xfrm>
              <a:off x="2434320" y="3564000"/>
              <a:ext cx="1104120" cy="751680"/>
              <a:chOff x="2434320" y="3564000"/>
              <a:chExt cx="1104120" cy="751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400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432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9344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9400" y="3564000"/>
              <a:ext cx="1104120" cy="751680"/>
              <a:chOff x="4469400" y="3564000"/>
              <a:chExt cx="1104120" cy="751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5908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940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2852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67360" y="1413000"/>
            <a:ext cx="2241000" cy="398880"/>
            <a:chOff x="1467360" y="1413000"/>
            <a:chExt cx="2241000" cy="398880"/>
          </a:xfrm>
        </p:grpSpPr>
        <p:sp>
          <p:nvSpPr>
            <p:cNvPr id="155" name=""/>
            <p:cNvSpPr/>
            <p:nvPr/>
          </p:nvSpPr>
          <p:spPr>
            <a:xfrm>
              <a:off x="1467360" y="14130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840" y="1622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21200" y="1809720"/>
            <a:ext cx="2386800" cy="398880"/>
            <a:chOff x="1321200" y="1809720"/>
            <a:chExt cx="2386800" cy="398880"/>
          </a:xfrm>
        </p:grpSpPr>
        <p:sp>
          <p:nvSpPr>
            <p:cNvPr id="158" name=""/>
            <p:cNvSpPr/>
            <p:nvPr/>
          </p:nvSpPr>
          <p:spPr>
            <a:xfrm>
              <a:off x="1321200" y="1809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Atomic Numb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20206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400" y="1639800"/>
            <a:ext cx="2596680" cy="398880"/>
            <a:chOff x="4406400" y="1639800"/>
            <a:chExt cx="2596680" cy="398880"/>
          </a:xfrm>
        </p:grpSpPr>
        <p:sp>
          <p:nvSpPr>
            <p:cNvPr id="161" name=""/>
            <p:cNvSpPr/>
            <p:nvPr/>
          </p:nvSpPr>
          <p:spPr>
            <a:xfrm>
              <a:off x="4893120" y="1639800"/>
              <a:ext cx="21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06400" y="183672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31B3-099E-46A4-8653-8948A8398C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922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top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atoms of the same element (X) with different numbers of neutrons in their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43280" y="2276640"/>
            <a:ext cx="7200720" cy="32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6000" y="32749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Isotopes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229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1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0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4DF6-87C4-450A-9853-B6D20C0199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8:57Z</dcterms:modified>
  <cp:revision>206</cp:revision>
  <dc:subject/>
  <dc:title>General Chemistry CHEM 110</dc:title>
</cp:coreProperties>
</file>